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BC6-1831-472A-A5A3-44C64F8F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27A-4A24-4B71-A451-69210BC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2C7-9AB4-4BCE-BE13-DAFE5D27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8D8-E6B5-4D99-AFD6-1435E517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526-889E-4908-83CA-A4A4E9A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F07-E1A4-4383-9E97-C4B45CF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571-2241-4D1F-9A22-CB67D43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626-FD5A-4204-A653-EA2D0A63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57F-210C-4A56-AD53-183B34D8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FB5-D395-4629-A6D3-6FF91D5E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BB3-6C42-4EDB-A1C2-9624F7F5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444-AE1B-411F-B266-5DA3B09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B6E-BD52-4D8A-B76E-F093E8910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840" y="104760"/>
            <a:ext cx="864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4.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Καθαριότητα των μαλλιών:  (σελ.6</a:t>
            </a: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4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714680"/>
            <a:ext cx="9144000" cy="346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Τακτικό </a:t>
            </a:r>
            <a:r>
              <a:rPr b="1" i="1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ούσιμ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Χρήση καλλυντικού προϊόντος </a:t>
            </a:r>
            <a:r>
              <a:rPr b="1" i="1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σαμπουάν)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άλογα με τον τύπο των μαλλιών (κανονικά – ξηρά – λιπαρά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Να αποφεύγεται το τεχνητό στέγνωμα </a:t>
            </a:r>
            <a:r>
              <a:rPr b="1" i="1" lang="el-G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πιστολάκ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987640" y="5079960"/>
            <a:ext cx="25401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6:28Z</dcterms:modified>
  <cp:revision>57</cp:revision>
  <dc:subject/>
  <dc:title>PowerPoint Presentation</dc:title>
</cp:coreProperties>
</file>